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0.png" ContentType="image/png"/>
  <Override PartName="/ppt/media/image5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96720" y="297000"/>
            <a:ext cx="7559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6720" y="1631880"/>
            <a:ext cx="755964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296720" y="4170240"/>
            <a:ext cx="755964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96720" y="297000"/>
            <a:ext cx="7559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96720" y="1631880"/>
            <a:ext cx="368892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70320" y="1631880"/>
            <a:ext cx="368892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96720" y="4170240"/>
            <a:ext cx="368892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170320" y="4170240"/>
            <a:ext cx="368892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96720" y="297000"/>
            <a:ext cx="7559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6720" y="1631880"/>
            <a:ext cx="243396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852720" y="1631880"/>
            <a:ext cx="243396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408720" y="1631880"/>
            <a:ext cx="243396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296720" y="4170240"/>
            <a:ext cx="243396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852720" y="4170240"/>
            <a:ext cx="243396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408720" y="4170240"/>
            <a:ext cx="243396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96720" y="297000"/>
            <a:ext cx="7559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296720" y="1631880"/>
            <a:ext cx="7559640" cy="48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96720" y="297000"/>
            <a:ext cx="7559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296720" y="1631880"/>
            <a:ext cx="7559640" cy="48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96720" y="297000"/>
            <a:ext cx="7559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96720" y="1631880"/>
            <a:ext cx="3688920" cy="48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170320" y="1631880"/>
            <a:ext cx="3688920" cy="48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6720" y="297000"/>
            <a:ext cx="7559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296720" y="297000"/>
            <a:ext cx="755964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96720" y="297000"/>
            <a:ext cx="7559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96720" y="1631880"/>
            <a:ext cx="368892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70320" y="1631880"/>
            <a:ext cx="3688920" cy="48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296720" y="4170240"/>
            <a:ext cx="368892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96720" y="297000"/>
            <a:ext cx="7559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296720" y="1631880"/>
            <a:ext cx="7559640" cy="48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96720" y="297000"/>
            <a:ext cx="7559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96720" y="1631880"/>
            <a:ext cx="3688920" cy="48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70320" y="1631880"/>
            <a:ext cx="368892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170320" y="4170240"/>
            <a:ext cx="368892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96720" y="297000"/>
            <a:ext cx="7559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96720" y="1631880"/>
            <a:ext cx="368892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70320" y="1631880"/>
            <a:ext cx="368892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296720" y="4170240"/>
            <a:ext cx="755964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96720" y="297000"/>
            <a:ext cx="7559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96720" y="1631880"/>
            <a:ext cx="755964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296720" y="4170240"/>
            <a:ext cx="755964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96720" y="297000"/>
            <a:ext cx="7559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96720" y="1631880"/>
            <a:ext cx="368892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70320" y="1631880"/>
            <a:ext cx="368892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296720" y="4170240"/>
            <a:ext cx="368892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5170320" y="4170240"/>
            <a:ext cx="368892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96720" y="297000"/>
            <a:ext cx="7559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6720" y="1631880"/>
            <a:ext cx="243396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852720" y="1631880"/>
            <a:ext cx="243396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408720" y="1631880"/>
            <a:ext cx="243396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296720" y="4170240"/>
            <a:ext cx="243396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852720" y="4170240"/>
            <a:ext cx="243396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408720" y="4170240"/>
            <a:ext cx="243396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2D65A-EABD-48C4-8904-926413AB5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6720" y="297000"/>
            <a:ext cx="7559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296720" y="1631880"/>
            <a:ext cx="7559640" cy="48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EC6D8-FA05-4174-9D8B-CD8F910E9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96720" y="297000"/>
            <a:ext cx="7559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96720" y="1631880"/>
            <a:ext cx="7559640" cy="48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9C531-B868-4461-83F4-E97CF1951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96720" y="297000"/>
            <a:ext cx="7559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6720" y="1631880"/>
            <a:ext cx="3688920" cy="48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170320" y="1631880"/>
            <a:ext cx="3688920" cy="48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C71AD-BA25-461A-8B6F-22059A94F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96720" y="297000"/>
            <a:ext cx="7559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A7A67-FF6B-4015-B941-20E04C996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96720" y="297000"/>
            <a:ext cx="7559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296720" y="1631880"/>
            <a:ext cx="7559640" cy="48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1296720" y="297000"/>
            <a:ext cx="755964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D44FA-6F7F-4A74-839F-B454C619A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96720" y="297000"/>
            <a:ext cx="7559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96720" y="1631880"/>
            <a:ext cx="368892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170320" y="1631880"/>
            <a:ext cx="3688920" cy="48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296720" y="4170240"/>
            <a:ext cx="368892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82551-2D58-4014-A657-FB8F24C5C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96720" y="297000"/>
            <a:ext cx="7559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96720" y="1631880"/>
            <a:ext cx="3688920" cy="48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170320" y="1631880"/>
            <a:ext cx="368892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170320" y="4170240"/>
            <a:ext cx="368892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03D62-0BF9-4079-8D4D-3D54E28EE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96720" y="297000"/>
            <a:ext cx="7559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96720" y="1631880"/>
            <a:ext cx="368892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170320" y="1631880"/>
            <a:ext cx="368892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296720" y="4170240"/>
            <a:ext cx="755964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9C848-0703-448C-A7CE-98FAA8F58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96720" y="297000"/>
            <a:ext cx="7559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96720" y="1631880"/>
            <a:ext cx="755964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1296720" y="4170240"/>
            <a:ext cx="755964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AB6BD-2CC5-41F1-8E28-95511BD5C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96720" y="297000"/>
            <a:ext cx="7559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96720" y="1631880"/>
            <a:ext cx="368892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70320" y="1631880"/>
            <a:ext cx="368892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296720" y="4170240"/>
            <a:ext cx="368892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5170320" y="4170240"/>
            <a:ext cx="368892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8F081-A5E7-4D03-982B-BF25B3AAD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96720" y="297000"/>
            <a:ext cx="7559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96720" y="1631880"/>
            <a:ext cx="243396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852720" y="1631880"/>
            <a:ext cx="243396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408720" y="1631880"/>
            <a:ext cx="243396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1296720" y="4170240"/>
            <a:ext cx="243396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852720" y="4170240"/>
            <a:ext cx="243396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408720" y="4170240"/>
            <a:ext cx="243396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4D67E-CD83-49C6-AD26-B30B11818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96720" y="297000"/>
            <a:ext cx="7559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296720" y="1631880"/>
            <a:ext cx="3688920" cy="48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170320" y="1631880"/>
            <a:ext cx="3688920" cy="48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96720" y="297000"/>
            <a:ext cx="7559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296720" y="297000"/>
            <a:ext cx="755964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96720" y="297000"/>
            <a:ext cx="7559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96720" y="1631880"/>
            <a:ext cx="368892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70320" y="1631880"/>
            <a:ext cx="3688920" cy="48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296720" y="4170240"/>
            <a:ext cx="368892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96720" y="297000"/>
            <a:ext cx="7559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96720" y="1631880"/>
            <a:ext cx="3688920" cy="48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70320" y="1631880"/>
            <a:ext cx="368892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70320" y="4170240"/>
            <a:ext cx="368892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96720" y="297000"/>
            <a:ext cx="7559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6720" y="1631880"/>
            <a:ext cx="368892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70320" y="1631880"/>
            <a:ext cx="368892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6720" y="4170240"/>
            <a:ext cx="755964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96720" y="297000"/>
            <a:ext cx="7559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96720" y="1631880"/>
            <a:ext cx="7559640" cy="48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358920">
              <a:spcBef>
                <a:spcPts val="700"/>
              </a:spcBef>
              <a:buClr>
                <a:srgbClr val="006600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  <a:p>
            <a:pPr lvl="1" marL="358920" indent="250560">
              <a:spcBef>
                <a:spcPts val="700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  <a:p>
            <a:pPr lvl="2" marL="719280" indent="179280">
              <a:spcBef>
                <a:spcPts val="7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  <a:p>
            <a:pPr lvl="3" marL="1600200" indent="-228600">
              <a:spcBef>
                <a:spcPts val="700"/>
              </a:spcBef>
              <a:buClr>
                <a:srgbClr val="17375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  <a:p>
            <a:pPr lvl="4" marL="2057400" indent="-228600">
              <a:spcBef>
                <a:spcPts val="700"/>
              </a:spcBef>
              <a:buClr>
                <a:srgbClr val="17375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96720" y="297000"/>
            <a:ext cx="7559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296720" y="1631880"/>
            <a:ext cx="7559640" cy="48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358920">
              <a:spcBef>
                <a:spcPts val="700"/>
              </a:spcBef>
              <a:buClr>
                <a:srgbClr val="006600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  <a:p>
            <a:pPr lvl="1" marL="358920" indent="250560">
              <a:spcBef>
                <a:spcPts val="700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  <a:p>
            <a:pPr lvl="2" marL="719280" indent="179280">
              <a:spcBef>
                <a:spcPts val="7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  <a:p>
            <a:pPr lvl="3" marL="1600200" indent="-228600">
              <a:spcBef>
                <a:spcPts val="700"/>
              </a:spcBef>
              <a:buClr>
                <a:srgbClr val="17375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  <a:p>
            <a:pPr lvl="4" marL="2057400" indent="-228600">
              <a:spcBef>
                <a:spcPts val="700"/>
              </a:spcBef>
              <a:buClr>
                <a:srgbClr val="17375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96720" y="297000"/>
            <a:ext cx="7559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1296720" y="1631880"/>
            <a:ext cx="7559640" cy="48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358920">
              <a:spcBef>
                <a:spcPts val="700"/>
              </a:spcBef>
              <a:buClr>
                <a:srgbClr val="006600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  <a:p>
            <a:pPr lvl="1" marL="358920" indent="250560">
              <a:spcBef>
                <a:spcPts val="700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  <a:p>
            <a:pPr lvl="2" marL="719280" indent="179280">
              <a:spcBef>
                <a:spcPts val="7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  <a:p>
            <a:pPr lvl="3" marL="1600200" indent="-228600">
              <a:spcBef>
                <a:spcPts val="700"/>
              </a:spcBef>
              <a:buClr>
                <a:srgbClr val="17375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  <a:p>
            <a:pPr lvl="4" marL="2057400" indent="-228600">
              <a:spcBef>
                <a:spcPts val="700"/>
              </a:spcBef>
              <a:buClr>
                <a:srgbClr val="17375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FA39F-8D05-4F3C-8AB6-9E6E768973D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annas2.ucoz.ru/" TargetMode="External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udivimenia.ru/tag/udivitelnyie-derevya/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botanichka.ru/blog/2010/09/22/baobab/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4360" y="2276640"/>
            <a:ext cx="7772400" cy="197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900" spc="-1" strike="noStrike">
                <a:solidFill>
                  <a:srgbClr val="4a452a"/>
                </a:solidFill>
                <a:latin typeface="Antikvar"/>
                <a:ea typeface="Arial Unicode MS"/>
              </a:rPr>
              <a:t>Самые необычные и удивительные деревья мира.</a:t>
            </a:r>
            <a:endParaRPr b="0" lang="en-US" sz="59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1619280" y="5373720"/>
            <a:ext cx="7337520" cy="131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32523"/>
                </a:solidFill>
                <a:latin typeface="Book Antiqua"/>
              </a:rPr>
              <a:t>Широкова Анна Дорофеевна</a:t>
            </a:r>
            <a:endParaRPr b="0" lang="en-US" sz="2400" spc="-1" strike="noStrike">
              <a:solidFill>
                <a:srgbClr val="006600"/>
              </a:solidFill>
              <a:latin typeface="Book Antiqu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32523"/>
                </a:solidFill>
                <a:latin typeface="Book Antiqua"/>
              </a:rPr>
              <a:t>Учитель биологии</a:t>
            </a:r>
            <a:endParaRPr b="0" lang="en-US" sz="2400" spc="-1" strike="noStrike">
              <a:solidFill>
                <a:srgbClr val="006600"/>
              </a:solidFill>
              <a:latin typeface="Book Antiqu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32523"/>
                </a:solidFill>
                <a:latin typeface="Book Antiqua"/>
              </a:rPr>
              <a:t>МАОУ СОШ №4 им. И.С. Черных г. Томска</a:t>
            </a:r>
            <a:endParaRPr b="0" lang="en-US" sz="2400" spc="-1" strike="noStrike">
              <a:solidFill>
                <a:srgbClr val="006600"/>
              </a:solidFill>
              <a:latin typeface="Book Antiqua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32523"/>
                </a:solidFill>
                <a:latin typeface="Book Antiqua"/>
              </a:rPr>
              <a:t>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Book Antiqua"/>
                <a:hlinkClick r:id="rId2"/>
              </a:rPr>
              <a:t>http://annas2.ucoz.ru/</a:t>
            </a:r>
            <a:r>
              <a:rPr b="0" lang="en-US" sz="1200" spc="-1" strike="noStrike">
                <a:solidFill>
                  <a:srgbClr val="632523"/>
                </a:solidFill>
                <a:latin typeface="Book Antiqua"/>
              </a:rPr>
              <a:t> </a:t>
            </a:r>
            <a:endParaRPr b="0" lang="en-US" sz="12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Рисунок 4" descr="samoe_samoe_derevo_9.jpg"/>
          <p:cNvPicPr/>
          <p:nvPr/>
        </p:nvPicPr>
        <p:blipFill>
          <a:blip r:embed="rId2"/>
          <a:stretch/>
        </p:blipFill>
        <p:spPr>
          <a:xfrm>
            <a:off x="1835280" y="189000"/>
            <a:ext cx="5688000" cy="36241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429840" y="3860640"/>
            <a:ext cx="8713800" cy="16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Book Antiqua"/>
              </a:rPr>
              <a:t>Пандо — это колония осинообразного тополя , расположенная в штате Юте в США. Все деревья в этой колонии генетически идентичные. На самое интересное в том, что все они являются единым живым организмом с общей корневой системой. Возраст этого уникального растения оценивается учеными в 80 тысяч лет, а его вес около 6 тысяч тонн.  </a:t>
            </a:r>
            <a:endParaRPr b="0" lang="en-US" sz="24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Рисунок 4" descr="samoe_samoe_derevo_8-450x600.jpg"/>
          <p:cNvPicPr/>
          <p:nvPr/>
        </p:nvPicPr>
        <p:blipFill>
          <a:blip r:embed="rId2"/>
          <a:stretch/>
        </p:blipFill>
        <p:spPr>
          <a:xfrm>
            <a:off x="1579680" y="189000"/>
            <a:ext cx="6521400" cy="4176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0" y="4508640"/>
            <a:ext cx="8856720" cy="26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Book Antiqua"/>
              </a:rPr>
              <a:t>Шен-Шапель является самым известным деревом во Франции. На самом деле, это больше, чем просто дерево: это здание и религиозный памятник. В 1669 году около этого 500 летнего (в то время), пораженного молнией дуба, аббаты решили построить часовню выполнен полым от молнии.   </a:t>
            </a:r>
            <a:endParaRPr b="0" lang="en-US" sz="24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684000" y="333360"/>
            <a:ext cx="3671640" cy="576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Book Antiqua"/>
              </a:rPr>
              <a:t>Великий баньян (Колката, Индия) </a:t>
            </a:r>
            <a:endParaRPr b="0" lang="en-US" sz="2400" spc="-1" strike="noStrike">
              <a:solidFill>
                <a:srgbClr val="006600"/>
              </a:solidFill>
              <a:latin typeface="Book Antiqu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Book Antiqu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Book Antiqu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Book Antiqua"/>
              </a:rPr>
              <a:t>Деревом с самой большой в мире площадью кроны является великий баньян, который расположен в индийском ботаническом саду. Баньян получил свое название в честь индийских торговцев, которые вели свою торговлю под раскидистой сенью этих деревьев.</a:t>
            </a:r>
            <a:endParaRPr b="0" lang="en-US" sz="2400" spc="-1" strike="noStrike">
              <a:solidFill>
                <a:srgbClr val="006600"/>
              </a:solidFill>
              <a:latin typeface="Book Antiqu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Book Antiqua"/>
            </a:endParaRPr>
          </a:p>
        </p:txBody>
      </p:sp>
      <p:pic>
        <p:nvPicPr>
          <p:cNvPr id="140" name="Рисунок 6" descr="samoe_samoe_derevo_14-450x325.jpg"/>
          <p:cNvPicPr/>
          <p:nvPr/>
        </p:nvPicPr>
        <p:blipFill>
          <a:blip r:embed="rId2"/>
          <a:stretch/>
        </p:blipFill>
        <p:spPr>
          <a:xfrm>
            <a:off x="4211640" y="692280"/>
            <a:ext cx="4738680" cy="4608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Рисунок 4" descr="001rcbkk.jpg"/>
          <p:cNvPicPr/>
          <p:nvPr/>
        </p:nvPicPr>
        <p:blipFill>
          <a:blip r:embed="rId2"/>
          <a:stretch/>
        </p:blipFill>
        <p:spPr>
          <a:xfrm>
            <a:off x="1763640" y="189000"/>
            <a:ext cx="5954760" cy="4464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826560" y="4723920"/>
            <a:ext cx="831708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0253f"/>
                </a:solidFill>
                <a:latin typeface="Book Antiqua"/>
              </a:rPr>
              <a:t>Дерево-лес </a:t>
            </a:r>
            <a:br>
              <a:rPr sz="2400"/>
            </a:br>
            <a:r>
              <a:rPr b="1" lang="en-US" sz="2400" spc="-1" strike="noStrike">
                <a:solidFill>
                  <a:srgbClr val="10253f"/>
                </a:solidFill>
                <a:latin typeface="Book Antiqua"/>
              </a:rPr>
              <a:t>На фото ниже изображён не лес, а одно единственное бразильское дерево Ореха Кешью, которое занимает площадь около 8500 квадратных метров!</a:t>
            </a:r>
            <a:endParaRPr b="0" lang="en-US" sz="24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Рисунок 4" descr="001qsw6q.jpg"/>
          <p:cNvPicPr/>
          <p:nvPr/>
        </p:nvPicPr>
        <p:blipFill>
          <a:blip r:embed="rId2"/>
          <a:stretch/>
        </p:blipFill>
        <p:spPr>
          <a:xfrm>
            <a:off x="1692360" y="115920"/>
            <a:ext cx="5759280" cy="39942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503280" y="4194000"/>
            <a:ext cx="8640720" cy="26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Book Antiqua"/>
              </a:rPr>
              <a:t>Дерево жизни </a:t>
            </a:r>
            <a:br>
              <a:rPr sz="2400"/>
            </a:br>
            <a:r>
              <a:rPr b="1" lang="ru-RU" sz="2400" spc="-1" strike="noStrike">
                <a:solidFill>
                  <a:srgbClr val="10253f"/>
                </a:solidFill>
                <a:latin typeface="Book Antiqua"/>
              </a:rPr>
              <a:t> Одно единственное четырёхвековое дерево акации в гордом одиночестве возвышается среди безжизненной пустыни  в заливе Бахрейн,в северо-западной части Персидского залива.</a:t>
            </a:r>
            <a:endParaRPr b="0" lang="en-US" sz="24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Рисунок 4" descr="001rdcqt.jpg"/>
          <p:cNvPicPr/>
          <p:nvPr/>
        </p:nvPicPr>
        <p:blipFill>
          <a:blip r:embed="rId2"/>
          <a:stretch/>
        </p:blipFill>
        <p:spPr>
          <a:xfrm>
            <a:off x="4572000" y="981000"/>
            <a:ext cx="4392720" cy="47372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-360" y="1052280"/>
            <a:ext cx="453708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Book Antiqua"/>
              </a:rPr>
              <a:t>Дерево-спрут </a:t>
            </a:r>
            <a:br>
              <a:rPr sz="2400"/>
            </a:br>
            <a:r>
              <a:rPr b="1" lang="ru-RU" sz="2400" spc="-1" strike="noStrike">
                <a:solidFill>
                  <a:srgbClr val="10253f"/>
                </a:solidFill>
                <a:latin typeface="Book Antiqua"/>
              </a:rPr>
              <a:t>Белое хлопковое дерево (шерстяное дерево, капок) у ворот храма Та Пром в Ангкор-Тхом, в столице исчезнувшей Кхмерской Империи. Это дерево, подобно спруту, опутывает входы в храм. (Древная столица Камбоджи , государства в Юго-Восточной Азии)</a:t>
            </a:r>
            <a:endParaRPr b="0" lang="en-US" sz="24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Рисунок 4" descr="phpThumb_generated_thumbnailjpg.jpg"/>
          <p:cNvPicPr/>
          <p:nvPr/>
        </p:nvPicPr>
        <p:blipFill>
          <a:blip r:embed="rId2"/>
          <a:stretch/>
        </p:blipFill>
        <p:spPr>
          <a:xfrm>
            <a:off x="179280" y="189000"/>
            <a:ext cx="3462480" cy="3139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0" y="3357360"/>
            <a:ext cx="601200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0253f"/>
                </a:solidFill>
                <a:latin typeface="Book Antiqua"/>
              </a:rPr>
              <a:t>Bombax ceiba (</a:t>
            </a:r>
            <a:r>
              <a:rPr b="1" lang="ru-RU" sz="2400" spc="-1" strike="noStrike">
                <a:solidFill>
                  <a:srgbClr val="10253f"/>
                </a:solidFill>
                <a:latin typeface="Book Antiqua"/>
              </a:rPr>
              <a:t>Бомбакс сейба) Семейство: Мальвовые </a:t>
            </a:r>
            <a:r>
              <a:rPr b="1" lang="en-US" sz="2400" spc="-1" strike="noStrike">
                <a:solidFill>
                  <a:srgbClr val="10253f"/>
                </a:solidFill>
                <a:latin typeface="Book Antiqua"/>
              </a:rPr>
              <a:t>Malvaceae</a:t>
            </a:r>
            <a:endParaRPr b="0" lang="en-US" sz="2400" spc="-1" strike="noStrike">
              <a:solidFill>
                <a:srgbClr val="006600"/>
              </a:solidFill>
              <a:latin typeface="Book Antiqu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Book Antiqua"/>
              </a:rPr>
              <a:t>Названия: Красное хлопковое дерево, Шелковое дерево. Австралия, Тропическая Азия.  Его особенность - большие красные цветы. Причем настолько яркие, что можно подумать, что они сделаны из пластмассы. </a:t>
            </a:r>
            <a:br>
              <a:rPr sz="1800"/>
            </a:br>
            <a:r>
              <a:rPr b="1" lang="ru-RU" sz="1800" spc="-1" strike="noStrike">
                <a:solidFill>
                  <a:srgbClr val="10253f"/>
                </a:solidFill>
                <a:latin typeface="Book Antiqua"/>
              </a:rPr>
              <a:t> </a:t>
            </a:r>
            <a:endParaRPr b="0" lang="en-US" sz="1800" spc="-1" strike="noStrike">
              <a:solidFill>
                <a:srgbClr val="006600"/>
              </a:solidFill>
              <a:latin typeface="Book Antiqua"/>
            </a:endParaRPr>
          </a:p>
        </p:txBody>
      </p:sp>
      <p:pic>
        <p:nvPicPr>
          <p:cNvPr id="149" name="Рисунок 5" descr="phpThumb_generated_thumbnailjpg.jpg"/>
          <p:cNvPicPr/>
          <p:nvPr/>
        </p:nvPicPr>
        <p:blipFill>
          <a:blip r:embed="rId3"/>
          <a:srcRect l="0" t="0" r="56655" b="0"/>
          <a:stretch/>
        </p:blipFill>
        <p:spPr>
          <a:xfrm>
            <a:off x="6014880" y="3357720"/>
            <a:ext cx="3129120" cy="2519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50" name="Рисунок 7" descr="phpThumb_generated_thumbnailjpg.jpg"/>
          <p:cNvPicPr/>
          <p:nvPr/>
        </p:nvPicPr>
        <p:blipFill>
          <a:blip r:embed="rId4"/>
          <a:srcRect l="43350" t="0" r="0" b="0"/>
          <a:stretch/>
        </p:blipFill>
        <p:spPr>
          <a:xfrm>
            <a:off x="4067280" y="333360"/>
            <a:ext cx="4968720" cy="2610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899640" y="475920"/>
            <a:ext cx="3816360" cy="61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Book Antiqua"/>
              </a:rPr>
              <a:t>Самым известным деревом в Мексике (город Оахака) является кипарис, который имеет своё собственное имя - "El Arbol del Tule". Длина окружности ствола этого исполина составляет 54 метра, а высота 40 метров. Диаметр кроны 51 метр. Дерево по приблизительным оценкам весит 600 тонн.</a:t>
            </a:r>
            <a:endParaRPr b="0" lang="en-US" sz="2400" spc="-1" strike="noStrike">
              <a:solidFill>
                <a:srgbClr val="006600"/>
              </a:solidFill>
              <a:latin typeface="Book Antiqua"/>
            </a:endParaRPr>
          </a:p>
        </p:txBody>
      </p:sp>
      <p:pic>
        <p:nvPicPr>
          <p:cNvPr id="152" name="Рисунок 5" descr="001r2rew.jpg"/>
          <p:cNvPicPr/>
          <p:nvPr/>
        </p:nvPicPr>
        <p:blipFill>
          <a:blip r:embed="rId2"/>
          <a:stretch/>
        </p:blipFill>
        <p:spPr>
          <a:xfrm>
            <a:off x="5003640" y="476280"/>
            <a:ext cx="3745080" cy="5688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Рисунок 4" descr="00175d5g.jpg"/>
          <p:cNvPicPr/>
          <p:nvPr/>
        </p:nvPicPr>
        <p:blipFill>
          <a:blip r:embed="rId2"/>
          <a:stretch/>
        </p:blipFill>
        <p:spPr>
          <a:xfrm>
            <a:off x="2268360" y="333360"/>
            <a:ext cx="5759640" cy="33670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358560" y="3645000"/>
            <a:ext cx="8785080" cy="17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Book Antiqua"/>
              </a:rPr>
              <a:t>Фикус Бенгальский (</a:t>
            </a:r>
            <a:r>
              <a:rPr b="1" lang="en-US" sz="2400" spc="-1" strike="noStrike">
                <a:solidFill>
                  <a:srgbClr val="10253f"/>
                </a:solidFill>
                <a:latin typeface="Book Antiqua"/>
              </a:rPr>
              <a:t>Ficus benghalensis)</a:t>
            </a:r>
            <a:r>
              <a:rPr b="1" lang="ru-RU" sz="2400" spc="-1" strike="noStrike">
                <a:solidFill>
                  <a:srgbClr val="10253f"/>
                </a:solidFill>
                <a:latin typeface="Book Antiqua"/>
              </a:rPr>
              <a:t> На первый взгляд может показаться, что на фото выше изображён лес. На самом деле - это одно единственное дерево. Фикус Бенгальский образует мощные ветви для поддержки которых отрастают побеги, которые отпускаясь вниз до земли укореняются, образуя мощные колонны-стволы. </a:t>
            </a:r>
            <a:br>
              <a:rPr sz="2000"/>
            </a:br>
            <a:endParaRPr b="0" lang="en-US" sz="24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Рисунок 4" descr="001r3dp7.jpg"/>
          <p:cNvPicPr/>
          <p:nvPr/>
        </p:nvPicPr>
        <p:blipFill>
          <a:blip r:embed="rId2"/>
          <a:stretch/>
        </p:blipFill>
        <p:spPr>
          <a:xfrm>
            <a:off x="2195640" y="333360"/>
            <a:ext cx="5689440" cy="3392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250560" y="3644640"/>
            <a:ext cx="889308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ru-RU" sz="2400" spc="-1" strike="noStrike">
                <a:solidFill>
                  <a:srgbClr val="10253f"/>
                </a:solidFill>
                <a:latin typeface="Book Antiqua"/>
              </a:rPr>
              <a:t>Воллемия сосновая (Wollemi Pine) - это дерево рода Хвойных, семейства Араукариевых произрастает в Австралии. Одно из самых древних древесных растений ("сверстник динозавров"), которое было широко распространено на Земле в Юрский период. До недавнего времени считалось вымершим ископаемым видом. Очень редкое растение, внесённое в Красную книгу. </a:t>
            </a:r>
            <a:endParaRPr b="0" lang="en-US" sz="24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8229600" cy="24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54061"/>
                </a:solidFill>
                <a:latin typeface="Book Antiqua"/>
              </a:rPr>
              <a:t>Какие самые необычные и 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Book Antiqua"/>
                <a:hlinkClick r:id="rId2"/>
              </a:rPr>
              <a:t>удивительные деревья</a:t>
            </a:r>
            <a:r>
              <a:rPr b="0" lang="en-US" sz="2800" spc="-1" strike="noStrike">
                <a:solidFill>
                  <a:srgbClr val="254061"/>
                </a:solidFill>
                <a:latin typeface="Book Antiqua"/>
              </a:rPr>
              <a:t> в мире? Где они растут? Сколько живут? Чем они необычны? Оказалось, удивительных деревьев на нашей планете достаточно </a:t>
            </a:r>
            <a:br>
              <a:rPr sz="2800"/>
            </a:br>
            <a:r>
              <a:rPr b="0" lang="en-US" sz="2800" spc="-1" strike="noStrike">
                <a:solidFill>
                  <a:srgbClr val="254061"/>
                </a:solidFill>
                <a:latin typeface="Book Antiqua"/>
              </a:rPr>
              <a:t>много.</a:t>
            </a: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pic>
        <p:nvPicPr>
          <p:cNvPr id="120" name="Содержимое 3" descr="танцующий лес в Калининградской области.jpg"/>
          <p:cNvPicPr/>
          <p:nvPr/>
        </p:nvPicPr>
        <p:blipFill>
          <a:blip r:embed="rId3"/>
          <a:stretch/>
        </p:blipFill>
        <p:spPr>
          <a:xfrm>
            <a:off x="1835280" y="2421000"/>
            <a:ext cx="6297480" cy="4211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826920" y="189000"/>
            <a:ext cx="41054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Book Antiqua"/>
              </a:rPr>
              <a:t>Пуйя Раймонда (</a:t>
            </a:r>
            <a:r>
              <a:rPr b="1" lang="en-US" sz="2400" spc="-1" strike="noStrike">
                <a:solidFill>
                  <a:srgbClr val="10253f"/>
                </a:solidFill>
                <a:latin typeface="Book Antiqua"/>
              </a:rPr>
              <a:t>Puya raimondii)</a:t>
            </a:r>
            <a:r>
              <a:rPr b="1" lang="ru-RU" sz="2400" spc="-1" strike="noStrike">
                <a:solidFill>
                  <a:srgbClr val="10253f"/>
                </a:solidFill>
                <a:latin typeface="Book Antiqua"/>
              </a:rPr>
              <a:t> Пуйя Раймонда семейства Бромелиевых произрастающее в Боливийских и Перуанских Андах имеет самое большое соцветие диаметром 2,5 метра и высотой около 12 метров, состоящее из приблизительно 10000 простых цветков. Очень жаль, что цветёт это удивительное растение только при достижении 150-летнего возраста, а затем погибает. </a:t>
            </a:r>
            <a:endParaRPr b="0" lang="en-US" sz="2400" spc="-1" strike="noStrike">
              <a:solidFill>
                <a:srgbClr val="006600"/>
              </a:solidFill>
              <a:latin typeface="Book Antiqua"/>
            </a:endParaRPr>
          </a:p>
        </p:txBody>
      </p:sp>
      <p:pic>
        <p:nvPicPr>
          <p:cNvPr id="158" name="Рисунок 4" descr="00179fpk.jpg"/>
          <p:cNvPicPr/>
          <p:nvPr/>
        </p:nvPicPr>
        <p:blipFill>
          <a:blip r:embed="rId2"/>
          <a:stretch/>
        </p:blipFill>
        <p:spPr>
          <a:xfrm>
            <a:off x="5051520" y="692280"/>
            <a:ext cx="3714480" cy="55450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29840" y="3428640"/>
            <a:ext cx="8713800" cy="270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04a7b"/>
                </a:solidFill>
                <a:latin typeface="Book Antiqua"/>
              </a:rPr>
              <a:t>(</a:t>
            </a:r>
            <a:r>
              <a:rPr b="1" lang="ru-RU" sz="2400" spc="-1" strike="noStrike">
                <a:solidFill>
                  <a:srgbClr val="10253f"/>
                </a:solidFill>
                <a:latin typeface="Book Antiqua"/>
              </a:rPr>
              <a:t>Курупита гвианская) принадлежит к семейству Летицисовых. Растёт в тропических областях Южной Америки«Пушечное дерево» растает в основном в северной части Южной Америки и на Карибах часто сопровождается табличкой с предупреждением: «Берегитесь падающих ядер». Фрукты начинают падать после созревания, и так как каждый из них достигает 25 сантиметров в диаметре, они запросто могут убить человека.  </a:t>
            </a:r>
            <a:endParaRPr b="0" lang="en-US" sz="2400" spc="-1" strike="noStrike">
              <a:solidFill>
                <a:srgbClr val="006600"/>
              </a:solidFill>
              <a:latin typeface="Book Antiqua"/>
            </a:endParaRPr>
          </a:p>
        </p:txBody>
      </p:sp>
      <p:pic>
        <p:nvPicPr>
          <p:cNvPr id="160" name="Рисунок 4" descr="1.jpg"/>
          <p:cNvPicPr/>
          <p:nvPr/>
        </p:nvPicPr>
        <p:blipFill>
          <a:blip r:embed="rId2"/>
          <a:stretch/>
        </p:blipFill>
        <p:spPr>
          <a:xfrm>
            <a:off x="1619280" y="189000"/>
            <a:ext cx="6661080" cy="31510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Рисунок 6" descr="1388565.jpg"/>
          <p:cNvPicPr/>
          <p:nvPr/>
        </p:nvPicPr>
        <p:blipFill>
          <a:blip r:embed="rId2"/>
          <a:stretch/>
        </p:blipFill>
        <p:spPr>
          <a:xfrm>
            <a:off x="1403280" y="189000"/>
            <a:ext cx="6769080" cy="41148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1258560" y="4365720"/>
            <a:ext cx="770580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54061"/>
                </a:solidFill>
                <a:latin typeface="Book Antiqua"/>
              </a:rPr>
              <a:t>НО, одно из самых необыкновенных деревьев – берёза. Береза – радостное, нарядное дерево. Само название произошло от старослявянского «брезньнъ», что означало «апрель». </a:t>
            </a:r>
            <a:endParaRPr b="0" lang="en-US" sz="24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1258560" y="404640"/>
            <a:ext cx="7561080" cy="604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54061"/>
                </a:solidFill>
                <a:latin typeface="Book Antiqua"/>
              </a:rPr>
              <a:t>Наши далекие предки ласково называли ее «веселкой». В древних языческих обрядах </a:t>
            </a:r>
            <a:r>
              <a:rPr b="1" lang="en-US" sz="2400" spc="-1" strike="noStrike">
                <a:solidFill>
                  <a:srgbClr val="006600"/>
                </a:solidFill>
                <a:latin typeface="Book Antiqua"/>
              </a:rPr>
              <a:t>береза</a:t>
            </a:r>
            <a:r>
              <a:rPr b="1" lang="en-US" sz="2400" spc="-1" strike="noStrike">
                <a:solidFill>
                  <a:srgbClr val="254061"/>
                </a:solidFill>
                <a:latin typeface="Book Antiqua"/>
              </a:rPr>
              <a:t> была «майским древом» – праздничным деревом, связанным с зелеными святками. На этот весенний праздник, посвящаемый плодородию и будущему урожаю, </a:t>
            </a:r>
            <a:endParaRPr b="0" lang="en-US" sz="2400" spc="-1" strike="noStrike">
              <a:solidFill>
                <a:srgbClr val="006600"/>
              </a:solidFill>
              <a:latin typeface="Book Antiqu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54061"/>
                </a:solidFill>
                <a:latin typeface="Book Antiqua"/>
              </a:rPr>
              <a:t>березу украшали разноцветными</a:t>
            </a:r>
            <a:endParaRPr b="0" lang="en-US" sz="2400" spc="-1" strike="noStrike">
              <a:solidFill>
                <a:srgbClr val="006600"/>
              </a:solidFill>
              <a:latin typeface="Book Antiqu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54061"/>
                </a:solidFill>
                <a:latin typeface="Book Antiqua"/>
              </a:rPr>
              <a:t> </a:t>
            </a:r>
            <a:r>
              <a:rPr b="1" lang="en-US" sz="2400" spc="-1" strike="noStrike">
                <a:solidFill>
                  <a:srgbClr val="254061"/>
                </a:solidFill>
                <a:latin typeface="Book Antiqua"/>
              </a:rPr>
              <a:t>лентами, заплетали косы из </a:t>
            </a:r>
            <a:endParaRPr b="0" lang="en-US" sz="2400" spc="-1" strike="noStrike">
              <a:solidFill>
                <a:srgbClr val="006600"/>
              </a:solidFill>
              <a:latin typeface="Book Antiqu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54061"/>
                </a:solidFill>
                <a:latin typeface="Book Antiqua"/>
              </a:rPr>
              <a:t>тонких, плакучих ветвей, водили</a:t>
            </a:r>
            <a:endParaRPr b="0" lang="en-US" sz="2400" spc="-1" strike="noStrike">
              <a:solidFill>
                <a:srgbClr val="006600"/>
              </a:solidFill>
              <a:latin typeface="Book Antiqu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54061"/>
                </a:solidFill>
                <a:latin typeface="Book Antiqua"/>
              </a:rPr>
              <a:t> </a:t>
            </a:r>
            <a:r>
              <a:rPr b="1" lang="en-US" sz="2400" spc="-1" strike="noStrike">
                <a:solidFill>
                  <a:srgbClr val="254061"/>
                </a:solidFill>
                <a:latin typeface="Book Antiqua"/>
              </a:rPr>
              <a:t>вокруг нее хороводы. Сейчас</a:t>
            </a:r>
            <a:endParaRPr b="0" lang="en-US" sz="2400" spc="-1" strike="noStrike">
              <a:solidFill>
                <a:srgbClr val="006600"/>
              </a:solidFill>
              <a:latin typeface="Book Antiqu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54061"/>
                </a:solidFill>
                <a:latin typeface="Book Antiqua"/>
              </a:rPr>
              <a:t> </a:t>
            </a:r>
            <a:r>
              <a:rPr b="1" lang="en-US" sz="2400" spc="-1" strike="noStrike">
                <a:solidFill>
                  <a:srgbClr val="254061"/>
                </a:solidFill>
                <a:latin typeface="Book Antiqua"/>
              </a:rPr>
              <a:t>этот обычай слился с </a:t>
            </a:r>
            <a:endParaRPr b="0" lang="en-US" sz="2400" spc="-1" strike="noStrike">
              <a:solidFill>
                <a:srgbClr val="006600"/>
              </a:solidFill>
              <a:latin typeface="Book Antiqu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54061"/>
                </a:solidFill>
                <a:latin typeface="Book Antiqua"/>
              </a:rPr>
              <a:t>празднованием Троицы,</a:t>
            </a:r>
            <a:endParaRPr b="0" lang="en-US" sz="2400" spc="-1" strike="noStrike">
              <a:solidFill>
                <a:srgbClr val="006600"/>
              </a:solidFill>
              <a:latin typeface="Book Antiqu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54061"/>
                </a:solidFill>
                <a:latin typeface="Book Antiqua"/>
              </a:rPr>
              <a:t> </a:t>
            </a:r>
            <a:r>
              <a:rPr b="1" lang="en-US" sz="2400" spc="-1" strike="noStrike">
                <a:solidFill>
                  <a:srgbClr val="254061"/>
                </a:solidFill>
                <a:latin typeface="Book Antiqua"/>
              </a:rPr>
              <a:t>который обычно бывает в июне.</a:t>
            </a:r>
            <a:endParaRPr b="0" lang="en-US" sz="2400" spc="-1" strike="noStrike">
              <a:solidFill>
                <a:srgbClr val="006600"/>
              </a:solidFill>
              <a:latin typeface="Book Antiqua"/>
            </a:endParaRPr>
          </a:p>
        </p:txBody>
      </p:sp>
      <p:pic>
        <p:nvPicPr>
          <p:cNvPr id="164" name="Рисунок 3" descr="4062092_f15a941f.jpg"/>
          <p:cNvPicPr/>
          <p:nvPr/>
        </p:nvPicPr>
        <p:blipFill>
          <a:blip r:embed="rId2"/>
          <a:stretch/>
        </p:blipFill>
        <p:spPr>
          <a:xfrm>
            <a:off x="6372360" y="2924280"/>
            <a:ext cx="2487600" cy="36385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Book Antiqua"/>
              </a:rPr>
              <a:t>Таблица удивительных растений</a:t>
            </a: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395280" y="1052640"/>
          <a:ext cx="8532720" cy="5472000"/>
        </p:xfrm>
        <a:graphic>
          <a:graphicData uri="http://schemas.openxmlformats.org/drawingml/2006/table">
            <a:tbl>
              <a:tblPr/>
              <a:tblGrid>
                <a:gridCol w="2413080"/>
                <a:gridCol w="2584440"/>
                <a:gridCol w="3535200"/>
              </a:tblGrid>
              <a:tr h="605880"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Признак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Место произрастани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Количественное значени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</a:tr>
              <a:tr h="853920">
                <a:tc>
                  <a:txBody>
                    <a:bodyPr lIns="28440" rIns="2844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Самое старое дерево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США, Невада, в горах на высоте 3275 м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4900 лет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</a:tr>
              <a:tr h="817920">
                <a:tc>
                  <a:txBody>
                    <a:bodyPr lIns="28440" rIns="2844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Самое большое дерево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США, Калифорни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Высота 83 м, окружность 24,11 м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817920">
                <a:tc>
                  <a:txBody>
                    <a:bodyPr lIns="28440" rIns="2844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Самое высокое дерево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США, Калифорни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Высота 110,33 м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</a:tr>
              <a:tr h="1188720">
                <a:tc>
                  <a:txBody>
                    <a:bodyPr lIns="28440" rIns="2844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Самое толстое дерево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Сицили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Окружность пяти сросшихся стволов в 1875 году 64,2 м, возраст 3600—4000 лет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1187640">
                <a:tc>
                  <a:txBody>
                    <a:bodyPr lIns="28440" rIns="2844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Самое быстрорастущее растени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Восточная и Южная Ази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До 0,75 м в сутк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Book Antiqua"/>
              </a:rPr>
              <a:t>Таблица удивительных растений</a:t>
            </a: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58920" y="692280"/>
          <a:ext cx="8389800" cy="5329080"/>
        </p:xfrm>
        <a:graphic>
          <a:graphicData uri="http://schemas.openxmlformats.org/drawingml/2006/table">
            <a:tbl>
              <a:tblPr/>
              <a:tblGrid>
                <a:gridCol w="2373120"/>
                <a:gridCol w="2540160"/>
                <a:gridCol w="3476520"/>
              </a:tblGrid>
              <a:tr h="652320"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Признак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Место произрастани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Количественное значени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</a:tr>
              <a:tr h="1065240">
                <a:tc>
                  <a:txBody>
                    <a:bodyPr lIns="28440" rIns="2844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Самое большое водное растени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Южная Америк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Размеры: листа 1,2—2 м, цветка 30-40 см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</a:tr>
              <a:tr h="1065240">
                <a:tc>
                  <a:txBody>
                    <a:bodyPr lIns="28440" rIns="2844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Растение с самыми большими цветам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Суматр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Поперечник цветка 90 см, вес цветка 7 кг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1481040">
                <a:tc>
                  <a:txBody>
                    <a:bodyPr lIns="28440" rIns="2844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Растение с самыми большими соцветиям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Боливи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Поперечник соцветия 2,4 м, высота соцветия 10,7 м, в соцветии до 8000 цветков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</a:tr>
              <a:tr h="1065240">
                <a:tc>
                  <a:txBody>
                    <a:bodyPr lIns="28440" rIns="2844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Самое маленькое цветковое растени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Водоемы умеренного пояса и тропиков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0,5—1,2 мм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296720" y="297000"/>
            <a:ext cx="755964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00"/>
                </a:solidFill>
                <a:latin typeface="Book Antiqua"/>
              </a:rPr>
              <a:t>Используемые источники.</a:t>
            </a:r>
            <a:endParaRPr b="0" lang="en-US" sz="40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258560" y="1052640"/>
            <a:ext cx="755964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indent="340920">
              <a:lnSpc>
                <a:spcPct val="90000"/>
              </a:lnSpc>
              <a:spcBef>
                <a:spcPts val="451"/>
              </a:spcBef>
              <a:buClr>
                <a:srgbClr val="254061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54061"/>
                </a:solidFill>
                <a:latin typeface="Book Antiqua"/>
              </a:rPr>
              <a:t>Шаблон презентации найден в интернете. Буду благодарна -за предоставление сведений об авторе шаблона.</a:t>
            </a:r>
            <a:endParaRPr b="0" lang="en-US" sz="1800" spc="-1" strike="noStrike">
              <a:solidFill>
                <a:srgbClr val="006600"/>
              </a:solidFill>
              <a:latin typeface="Book Antiqua"/>
            </a:endParaRPr>
          </a:p>
          <a:p>
            <a:pPr indent="340920">
              <a:lnSpc>
                <a:spcPct val="90000"/>
              </a:lnSpc>
              <a:spcBef>
                <a:spcPts val="451"/>
              </a:spcBef>
              <a:buClr>
                <a:srgbClr val="254061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54061"/>
                </a:solidFill>
                <a:latin typeface="Book Antiqua"/>
              </a:rPr>
              <a:t>http://udivimenia.ru/priroda/udivitelnyie-derevya/</a:t>
            </a:r>
            <a:r>
              <a:rPr b="0" lang="ru-RU" sz="1800" spc="-1" strike="noStrike">
                <a:solidFill>
                  <a:srgbClr val="604a7b"/>
                </a:solidFill>
                <a:latin typeface="Book Antiqua"/>
              </a:rPr>
              <a:t>Автор: </a:t>
            </a:r>
            <a:r>
              <a:rPr b="1" lang="ru-RU" sz="1800" spc="-1" strike="noStrike">
                <a:solidFill>
                  <a:srgbClr val="604a7b"/>
                </a:solidFill>
                <a:latin typeface="Book Antiqua"/>
              </a:rPr>
              <a:t>mrwallero </a:t>
            </a:r>
            <a:endParaRPr b="0" lang="en-US" sz="1800" spc="-1" strike="noStrike">
              <a:solidFill>
                <a:srgbClr val="006600"/>
              </a:solidFill>
              <a:latin typeface="Book Antiqua"/>
            </a:endParaRPr>
          </a:p>
          <a:p>
            <a:pPr indent="340920">
              <a:lnSpc>
                <a:spcPct val="90000"/>
              </a:lnSpc>
              <a:spcBef>
                <a:spcPts val="451"/>
              </a:spcBef>
              <a:buClr>
                <a:srgbClr val="604a7b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04a7b"/>
                </a:solidFill>
                <a:latin typeface="Book Antiqua"/>
              </a:rPr>
              <a:t>http://lifestripes.ru/world/udivitelnye-derevja-mira.html</a:t>
            </a:r>
            <a:r>
              <a:rPr b="0" lang="ru-RU" sz="1800" spc="-1" strike="noStrike">
                <a:solidFill>
                  <a:srgbClr val="604a7b"/>
                </a:solidFill>
                <a:latin typeface="Book Antiqua"/>
              </a:rPr>
              <a:t> </a:t>
            </a:r>
            <a:endParaRPr b="0" lang="en-US" sz="1800" spc="-1" strike="noStrike">
              <a:solidFill>
                <a:srgbClr val="006600"/>
              </a:solidFill>
              <a:latin typeface="Book Antiqua"/>
            </a:endParaRPr>
          </a:p>
          <a:p>
            <a:pPr indent="340920">
              <a:lnSpc>
                <a:spcPct val="90000"/>
              </a:lnSpc>
              <a:spcBef>
                <a:spcPts val="451"/>
              </a:spcBef>
              <a:buClr>
                <a:srgbClr val="254061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54061"/>
                </a:solidFill>
                <a:latin typeface="Book Antiqua"/>
              </a:rPr>
              <a:t>http://www.priroda.su/item/1299</a:t>
            </a:r>
            <a:endParaRPr b="0" lang="en-US" sz="1800" spc="-1" strike="noStrike">
              <a:solidFill>
                <a:srgbClr val="006600"/>
              </a:solidFill>
              <a:latin typeface="Book Antiqua"/>
            </a:endParaRPr>
          </a:p>
          <a:p>
            <a:pPr indent="340920">
              <a:lnSpc>
                <a:spcPct val="90000"/>
              </a:lnSpc>
              <a:spcBef>
                <a:spcPts val="451"/>
              </a:spcBef>
              <a:buClr>
                <a:srgbClr val="254061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54061"/>
                </a:solidFill>
                <a:latin typeface="Book Antiqua"/>
              </a:rPr>
              <a:t>http://podkofeek.ru/capuchino/571-samie-strannie-i-udivitelnie-derevya.html</a:t>
            </a:r>
            <a:endParaRPr b="0" lang="en-US" sz="1800" spc="-1" strike="noStrike">
              <a:solidFill>
                <a:srgbClr val="006600"/>
              </a:solidFill>
              <a:latin typeface="Book Antiqua"/>
            </a:endParaRPr>
          </a:p>
          <a:p>
            <a:pPr indent="340920">
              <a:lnSpc>
                <a:spcPct val="90000"/>
              </a:lnSpc>
              <a:spcBef>
                <a:spcPts val="451"/>
              </a:spcBef>
              <a:buClr>
                <a:srgbClr val="254061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54061"/>
                </a:solidFill>
                <a:latin typeface="Book Antiqua"/>
              </a:rPr>
              <a:t>http://www.vsetabl.ru</a:t>
            </a:r>
            <a:endParaRPr b="0" lang="en-US" sz="1800" spc="-1" strike="noStrike">
              <a:solidFill>
                <a:srgbClr val="006600"/>
              </a:solidFill>
              <a:latin typeface="Book Antiqua"/>
            </a:endParaRPr>
          </a:p>
          <a:p>
            <a:pPr indent="340920">
              <a:lnSpc>
                <a:spcPct val="90000"/>
              </a:lnSpc>
              <a:spcBef>
                <a:spcPts val="451"/>
              </a:spcBef>
              <a:buClr>
                <a:srgbClr val="254061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54061"/>
                </a:solidFill>
                <a:latin typeface="Book Antiqua"/>
              </a:rPr>
              <a:t>http://nnm.ru/blogs/horror1017/russkaya_berezka/</a:t>
            </a:r>
            <a:endParaRPr b="0" lang="en-US" sz="1800" spc="-1" strike="noStrike">
              <a:solidFill>
                <a:srgbClr val="006600"/>
              </a:solidFill>
              <a:latin typeface="Book Antiqua"/>
            </a:endParaRPr>
          </a:p>
          <a:p>
            <a:pPr indent="340920">
              <a:lnSpc>
                <a:spcPct val="90000"/>
              </a:lnSpc>
              <a:spcBef>
                <a:spcPts val="451"/>
              </a:spcBef>
              <a:buClr>
                <a:srgbClr val="254061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54061"/>
                </a:solidFill>
                <a:latin typeface="Book Antiqua"/>
              </a:rPr>
              <a:t>http://images.yandex.ru/yandsearch?text=%D0%B1%D0%B5%D1%80%D0%B5%D0%B7%D0%B0&amp;noreask=1&amp;pos=11&amp;rpt=simage&amp;lr=67&amp;img_url=http%3A%2F%2Fs.imhonet.ru%2Fuser_files%2F16%2F9f%2F169fef04a13aeb6be3cd6f42b63b7645%2Fimages%2F20_02_11%2F20_03_2011%2F12.jpg</a:t>
            </a:r>
            <a:endParaRPr b="0" lang="en-US" sz="1800" spc="-1" strike="noStrike">
              <a:solidFill>
                <a:srgbClr val="006600"/>
              </a:solidFill>
              <a:latin typeface="Book Antiqua"/>
            </a:endParaRPr>
          </a:p>
          <a:p>
            <a:pPr indent="340920">
              <a:lnSpc>
                <a:spcPct val="90000"/>
              </a:lnSpc>
              <a:spcBef>
                <a:spcPts val="451"/>
              </a:spcBef>
              <a:buClr>
                <a:srgbClr val="254061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54061"/>
                </a:solidFill>
                <a:latin typeface="Book Antiqua"/>
              </a:rPr>
              <a:t>http://pagan.ru/slowar/b/bereza0.php</a:t>
            </a:r>
            <a:endParaRPr b="0" lang="en-US" sz="1800" spc="-1" strike="noStrike">
              <a:solidFill>
                <a:srgbClr val="006600"/>
              </a:solidFill>
              <a:latin typeface="Book Antiqua"/>
            </a:endParaRPr>
          </a:p>
          <a:p>
            <a:pPr indent="340920">
              <a:lnSpc>
                <a:spcPct val="90000"/>
              </a:lnSpc>
              <a:spcBef>
                <a:spcPts val="451"/>
              </a:spcBef>
              <a:buClr>
                <a:srgbClr val="254061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54061"/>
                </a:solidFill>
                <a:latin typeface="Book Antiqua"/>
              </a:rPr>
              <a:t>http://www.botanichka.ru/blog/2010/09/22/baobab/</a:t>
            </a:r>
            <a:r>
              <a:rPr b="1" lang="ru-RU" sz="1800" spc="-1" strike="noStrike">
                <a:solidFill>
                  <a:srgbClr val="254061"/>
                </a:solidFill>
                <a:latin typeface="Book Antiqua"/>
              </a:rPr>
              <a:t> </a:t>
            </a:r>
            <a:endParaRPr b="0" lang="en-US" sz="1800" spc="-1" strike="noStrike">
              <a:solidFill>
                <a:srgbClr val="006600"/>
              </a:solidFill>
              <a:latin typeface="Book Antiqua"/>
            </a:endParaRPr>
          </a:p>
          <a:p>
            <a:pPr indent="340920">
              <a:lnSpc>
                <a:spcPct val="90000"/>
              </a:lnSpc>
              <a:spcBef>
                <a:spcPts val="451"/>
              </a:spcBef>
              <a:buClr>
                <a:srgbClr val="254061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Book Antiqua"/>
            </a:endParaRPr>
          </a:p>
          <a:p>
            <a:pPr indent="340920">
              <a:lnSpc>
                <a:spcPct val="90000"/>
              </a:lnSpc>
              <a:spcBef>
                <a:spcPts val="451"/>
              </a:spcBef>
              <a:buClr>
                <a:srgbClr val="254061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Book Antiqua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Book Antiqua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Book Antiqua"/>
            </a:endParaRPr>
          </a:p>
          <a:p>
            <a:pPr indent="340920">
              <a:lnSpc>
                <a:spcPct val="90000"/>
              </a:lnSpc>
              <a:spcBef>
                <a:spcPts val="451"/>
              </a:spcBef>
              <a:buClr>
                <a:srgbClr val="254061"/>
              </a:buClr>
              <a:buFont typeface="Arial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11280" y="4220640"/>
            <a:ext cx="8229600" cy="208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Book Antiqua"/>
                <a:hlinkClick r:id="rId2"/>
              </a:rPr>
              <a:t>Баобаб</a:t>
            </a:r>
            <a:r>
              <a:rPr b="0" lang="en-US" sz="2400" spc="-1" strike="noStrike" u="sng">
                <a:solidFill>
                  <a:srgbClr val="10253f"/>
                </a:solidFill>
                <a:uFillTx/>
                <a:latin typeface="Book Antiqua"/>
              </a:rPr>
              <a:t> из семейства Мальвовых – одно из самых</a:t>
            </a:r>
            <a:r>
              <a:rPr b="1" i="1" lang="en-US" sz="2400" spc="-1" strike="noStrike">
                <a:solidFill>
                  <a:srgbClr val="10253f"/>
                </a:solidFill>
                <a:latin typeface="Book Antiqua"/>
              </a:rPr>
              <a:t> удивительных деревьев</a:t>
            </a:r>
            <a:r>
              <a:rPr b="1" lang="en-US" sz="2400" spc="-1" strike="noStrike">
                <a:solidFill>
                  <a:srgbClr val="10253f"/>
                </a:solidFill>
                <a:latin typeface="Book Antiqua"/>
              </a:rPr>
              <a:t>. Диаметр Баобаба может достигать более десяти метров – что является рекордом среди деревьев.</a:t>
            </a:r>
            <a:endParaRPr b="0" lang="en-US" sz="2400" spc="-1" strike="noStrike">
              <a:solidFill>
                <a:srgbClr val="006600"/>
              </a:solidFill>
              <a:latin typeface="Book Antiqua"/>
            </a:endParaRPr>
          </a:p>
        </p:txBody>
      </p:sp>
      <p:pic>
        <p:nvPicPr>
          <p:cNvPr id="122" name="Рисунок 4" descr="баобаб.jpg"/>
          <p:cNvPicPr/>
          <p:nvPr/>
        </p:nvPicPr>
        <p:blipFill>
          <a:blip r:embed="rId3"/>
          <a:stretch/>
        </p:blipFill>
        <p:spPr>
          <a:xfrm>
            <a:off x="1403280" y="189000"/>
            <a:ext cx="6624720" cy="41432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3981600" cy="652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0253f"/>
                </a:solidFill>
                <a:latin typeface="Book Antiqua"/>
              </a:rPr>
              <a:t>Высота дерева может достигать 30 метров. Так как годовалых колец также, точный возраст деревьев установить трудно. Считается что их возраст не менее тысячи лет. Дерево очень живучее, если содрать с него кору – нарастет новая, если дерево упадет на землю и хоть один корень находится в земле – дерево будет продолжает жить и расти. </a:t>
            </a:r>
            <a:endParaRPr b="0" lang="en-US" sz="2400" spc="-1" strike="noStrike">
              <a:solidFill>
                <a:srgbClr val="006600"/>
              </a:solidFill>
              <a:latin typeface="Book Antiqua"/>
            </a:endParaRPr>
          </a:p>
        </p:txBody>
      </p:sp>
      <p:pic>
        <p:nvPicPr>
          <p:cNvPr id="124" name="Содержимое 3" descr="баобаб2.jpg"/>
          <p:cNvPicPr/>
          <p:nvPr/>
        </p:nvPicPr>
        <p:blipFill>
          <a:blip r:embed="rId2"/>
          <a:stretch/>
        </p:blipFill>
        <p:spPr>
          <a:xfrm>
            <a:off x="4572000" y="549360"/>
            <a:ext cx="4284720" cy="52531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Рисунок 4" descr="баоаб3.jpg"/>
          <p:cNvPicPr/>
          <p:nvPr/>
        </p:nvPicPr>
        <p:blipFill>
          <a:blip r:embed="rId2"/>
          <a:stretch/>
        </p:blipFill>
        <p:spPr>
          <a:xfrm>
            <a:off x="2268360" y="260280"/>
            <a:ext cx="5213520" cy="3141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179280" y="3428640"/>
            <a:ext cx="8964720" cy="23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0253f"/>
                </a:solidFill>
                <a:latin typeface="Book Antiqua"/>
              </a:rPr>
              <a:t>Растет это удивительное дерево в Африке, в Австралии, а также на тропических островах. В сезон дождей древесина Баобаба впитывает в себя воду как губка. В засушливый период, дерево расходует накопленную воду и сбрасывает с себя всю листву. Местное население вовсю использует Баобабы – делают временные жилища, кладовые, резервуары для запасов воды. Из самых больших устраивают такие заведения как тюрьма, баня, ресторан, автобусная станция.  </a:t>
            </a:r>
            <a:endParaRPr b="0" lang="en-US" sz="24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Рисунок 4" descr="секвойя.jpg"/>
          <p:cNvPicPr/>
          <p:nvPr/>
        </p:nvPicPr>
        <p:blipFill>
          <a:blip r:embed="rId2"/>
          <a:stretch/>
        </p:blipFill>
        <p:spPr>
          <a:xfrm>
            <a:off x="4788000" y="333360"/>
            <a:ext cx="3925800" cy="5616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0" y="404640"/>
            <a:ext cx="4751280" cy="666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0253f"/>
                </a:solidFill>
                <a:latin typeface="Book Antiqua"/>
              </a:rPr>
              <a:t>Секвойя – вечнозеленое растение, которое любит влажность, кора дерева впитывает ее как губка. Кора достаточно толстая, до тридцати см, красно-коричневого цвета. Древесина дерева ценится своими свойствами – она легка, пориста, не гниет, легко обрабатывается.  Растет Секвойя в Калифорнии и в канадской провинции Британская Колумбия.</a:t>
            </a:r>
            <a:endParaRPr b="0" lang="en-US" sz="24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Рисунок 10" descr="samoe_samoe_derevo_5-450x333.jpg"/>
          <p:cNvPicPr/>
          <p:nvPr/>
        </p:nvPicPr>
        <p:blipFill>
          <a:blip r:embed="rId2"/>
          <a:stretch/>
        </p:blipFill>
        <p:spPr>
          <a:xfrm>
            <a:off x="2124000" y="115920"/>
            <a:ext cx="5138640" cy="32860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29840" y="3357360"/>
            <a:ext cx="871380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Book Antiqua"/>
              </a:rPr>
              <a:t>Гигантские секвойи  являются крупнейшими по объему деревьями в мире. Самое большое из них  имеет высоту 84 метра, более 1486 кубических метров объема и более 6000 тонн в весе. Дереву около 2200 лет и оно продолжает расти.  Самое высокое дерево названное Гиперион ,  его высота составляет 115 м.  Помимо этих выдающихся деревьев, в Калифорнии  есть также 4 секвойи, сквозь которые проделаны тоннели для проезда автомобилей.  </a:t>
            </a:r>
            <a:endParaRPr b="0" lang="en-US" sz="24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358560" y="3976560"/>
            <a:ext cx="8785080" cy="28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Book Antiqua"/>
              </a:rPr>
              <a:t>Драконовое дерево из семейства Иглицевыех.  Размеры дерева не велики – в высоту до 20 метров, диаметр до 4 метров. Возраст дерева может достигать несколько тысяч лет, точнее определить не возможно, у дерева так же нет годичных колец. Ствол дерева причудливо ветвится, каждая ветвь заканчивается пучком длинных и узких листьев. </a:t>
            </a:r>
            <a:endParaRPr b="0" lang="en-US" sz="2400" spc="-1" strike="noStrike">
              <a:solidFill>
                <a:srgbClr val="006600"/>
              </a:solidFill>
              <a:latin typeface="Book Antiqua"/>
            </a:endParaRPr>
          </a:p>
        </p:txBody>
      </p:sp>
      <p:pic>
        <p:nvPicPr>
          <p:cNvPr id="132" name="Рисунок 6" descr="драконовое дерево.jpg"/>
          <p:cNvPicPr/>
          <p:nvPr/>
        </p:nvPicPr>
        <p:blipFill>
          <a:blip r:embed="rId2"/>
          <a:stretch/>
        </p:blipFill>
        <p:spPr>
          <a:xfrm>
            <a:off x="2195640" y="189000"/>
            <a:ext cx="4983120" cy="37368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Рисунок 4" descr="драконовое2.jpg"/>
          <p:cNvPicPr/>
          <p:nvPr/>
        </p:nvPicPr>
        <p:blipFill>
          <a:blip r:embed="rId2"/>
          <a:stretch/>
        </p:blipFill>
        <p:spPr>
          <a:xfrm>
            <a:off x="1255680" y="-6480"/>
            <a:ext cx="6566040" cy="4486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179280" y="4292640"/>
            <a:ext cx="8785440" cy="17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Book Antiqua"/>
              </a:rPr>
              <a:t>Смола дерева – красного цвета, она еще с древних времен применялась в лечебных целях. Местные жители считали Драконовые деревья священными, нередко они устраивали в их больших дуплах алтари. Эти удивительные деревья растут в Африке и Юго – Восточной Азии.</a:t>
            </a:r>
            <a:endParaRPr b="0" lang="en-US" sz="2400" spc="-1" strike="noStrike">
              <a:solidFill>
                <a:srgbClr val="006600"/>
              </a:solidFill>
              <a:latin typeface="Book Antiqu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9T15:56:34Z</dcterms:created>
  <dc:creator>Лена</dc:creator>
  <dc:description/>
  <dc:language>en-US</dc:language>
  <cp:lastModifiedBy>Мама</cp:lastModifiedBy>
  <dcterms:modified xsi:type="dcterms:W3CDTF">2013-01-13T06:47:53Z</dcterms:modified>
  <cp:revision>16</cp:revision>
  <dc:subject/>
  <dc:title>Слайд 1</dc:title>
</cp:coreProperties>
</file>